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006F-0EEA-4FB5-8908-3E11E30D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42E-A6EB-4D00-9992-30B16677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DCF9-6712-40C3-AFBE-A9E8C6F8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276-1E62-41B3-B7D6-A8C5A320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095-7F9D-46DC-9786-1BC7481E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580-6F4B-4FAD-AF33-CAD92EFF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15D-6693-48A5-B510-FADBE906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7FB-E45F-40BD-ADD7-321FFE3E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3D1-E2F5-446E-ADE9-2F197A8B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D49-BDEA-4A59-9344-30F44F97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0D4-789B-4CDB-8044-8BE6CCE5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D58-6654-49BB-92A8-5AA07D78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7806-4DD2-4743-91CC-D244C27CF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    Clase 6NH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4 de noviembre del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ropósito # 19: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son los artículos defini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ica el género y el número del sustan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uñe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. B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omp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7. Suét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8. Ded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redor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.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luv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0. 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rial"/>
              </a:rPr>
              <a:t>Los artículos defi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rtículo defini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se usa cuando se refiere a una persona o cosa EN ESPECIF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ingles el artículo definido es T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usa el artículo defini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E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antes de un sustantivo masculino, singula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L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antes de un sustantivo femenino, singula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antes de un sustantivo masculino, plura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L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antes de un sustantivo femenino, plu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studia la siguiente tab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240" cy="4524840"/>
        </p:xfrm>
        <a:graphic>
          <a:graphicData uri="http://schemas.openxmlformats.org/drawingml/2006/table">
            <a:tbl>
              <a:tblPr/>
              <a:tblGrid>
                <a:gridCol w="2742840"/>
                <a:gridCol w="2743200"/>
                <a:gridCol w="2743200"/>
              </a:tblGrid>
              <a:tr h="16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RTICULOS DEFINIDO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6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SCULI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ENI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4282200" y="428148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Verdana"/>
              </a:rPr>
              <a:t>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11360" y="527220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Verdana"/>
              </a:rPr>
              <a:t>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60240" y="434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Verdana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77520" y="519588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Verdana"/>
              </a:rPr>
              <a:t>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be el artículo definido corr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_____ Ros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. _____ U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_____ Tach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7. _____ R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_____ Xilófon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8. _____ Tabl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_____ Vac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. _____ Por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_____  Niñ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0. ____ Borr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5:36:36Z</dcterms:created>
  <dc:creator>Helen Zumaeta</dc:creator>
  <dc:description/>
  <dc:language>en-US</dc:language>
  <cp:lastModifiedBy>Helen Zumaeta</cp:lastModifiedBy>
  <dcterms:modified xsi:type="dcterms:W3CDTF">2011-11-14T15:22:19Z</dcterms:modified>
  <cp:revision>5</cp:revision>
  <dc:subject/>
  <dc:title>Me llamo _________ Clase 6NH La fecha es el 14 de noviembre del 2011</dc:title>
</cp:coreProperties>
</file>